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6.png" ContentType="image/png"/>
  <Override PartName="/ppt/media/image14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81BF-36C2-4064-9EE9-7F33735C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58D5-BAE6-4C6E-B63A-B87905C3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7254-0F04-4145-8CA0-298553A6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A5CE-0E7B-451E-AA11-42BE6EBD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FBEB-52E2-4FF5-99C2-9FA0E5EA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AB72-F0A1-4493-9EE8-D30DD3A7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58AD-91EC-44CA-9F3C-209BE6CB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164E-8777-480A-89F3-E6490C61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9138-DD0C-441F-96F8-2554607B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6B3E-B9EE-4FAE-9B8F-C653DDB5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6AFB-FF30-4B6A-B2CC-E3036298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9CD9-F474-44EB-A330-62D67A9C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C87B-37C0-4976-A526-610E6B86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216C-EBC6-4F61-835C-CDF31AB6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4095-6621-4B5A-B1D7-7B857F02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27DE-1735-49A0-B5DE-99BBE87A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FE97-7FD6-41A0-B36B-DA356BDE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862C-DF5D-47D8-8C5C-47E400E4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1359-7BA6-4931-A388-490C9EF9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C446-B23E-4A04-AD00-AD7181EA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A2DF-864F-4299-AF1C-24DDB221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1D68-E192-4935-9D67-410287DB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190F-C3DD-4183-90BB-61D2D192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F92F-2B7F-406C-8292-05C57DDC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1086-510B-4711-9A6A-67AFFCBA2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1d4a4b54241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9956-4113-426A-A37D-3DD5D69B0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Скругленный прямоугольник 3"/>
          <p:cNvSpPr/>
          <p:nvPr/>
        </p:nvSpPr>
        <p:spPr>
          <a:xfrm>
            <a:off x="500040" y="3857760"/>
            <a:ext cx="8358120" cy="2786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714240" y="3786120"/>
            <a:ext cx="7858440" cy="28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тения  Красной книг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нинградской област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://www.plantarium.ru/dat/plants/2/297/141297_79ca1bd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2" descr=""/>
          <p:cNvPicPr/>
          <p:nvPr/>
        </p:nvPicPr>
        <p:blipFill>
          <a:blip r:embed="rId3"/>
          <a:stretch/>
        </p:blipFill>
        <p:spPr>
          <a:xfrm>
            <a:off x="-30240" y="79200"/>
            <a:ext cx="5351400" cy="2041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www.plantarium.ru/dat/plants/4/428/81428_6ebd56fc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2" descr=""/>
          <p:cNvPicPr/>
          <p:nvPr/>
        </p:nvPicPr>
        <p:blipFill>
          <a:blip r:embed="rId3"/>
          <a:stretch/>
        </p:blipFill>
        <p:spPr>
          <a:xfrm>
            <a:off x="804960" y="79200"/>
            <a:ext cx="7248600" cy="12193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142920" y="67680"/>
            <a:ext cx="8786880" cy="183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Краткий список растений Красной книги Ленинградской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обла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- 0храняемые растения, занесённые в «Красную книг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 - Растения, взятые под охрану повсеместно в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 - охраняется в лесопарков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1714680" y="1801800"/>
            <a:ext cx="5357520" cy="47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шмачок настоящий –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временник осенний -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усника -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лериана лекарственная -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осбор обыкновенный –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ечавка обыкновенная -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оздовник простой -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синый лук жёлтый  –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рен шведский -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учка пирамидальная -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еробой пронзённый –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лина обыкновенная -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сатик, или ирис жёлтый –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улиния тончайшая –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улиния гибкая –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зильник блестящий -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окольчик персиколистный -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1214280" y="334440"/>
            <a:ext cx="6786720" cy="640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окольчик широколистный -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шина ломкая, ольховидная –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бышка жёлтая –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бышка белая –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вшинка четырёхгранная – 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вшинка -чистобелая – 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пальница европейская – 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пена многоцветковая – 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ндыш майский – 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пчатка прямостоячая, или калган –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тук сибирский -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щина обыкновенная, орешник -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белия Дортмана  –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нник оживающий -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ка двухлистная, ночная фиалка -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уница неясная –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жжевельник обыкновенный-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дбородник безлистный  –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яда морская –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ка теневая  –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оцвет весенний –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ченочница благородная, или перелескаголубая  –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ун булавовидный –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1785960" y="314280"/>
            <a:ext cx="6215040" cy="61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маренник Герцинский  –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шник тончайший -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шник озёрный  -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рел раскрытый, или сон-трава-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сянка круглолистная –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ябина обыкновенная  –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тник растопыренный –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олевка скальная –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мьян ползучий, или чебрец -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локнянка обыкновенная –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алка душистая -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алка трёхцветная –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мель обыкновенный –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хлатка промежуточная –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хлатка плотная –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туха Валенбарга  -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на весенняя –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на приморская –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повник, или роза собачья –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товник мужской –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блоня Надзвецкого –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трышник пятнистый -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http://cvetyvsadu.ru/wp-content/imagescaler/52c23a94db0a1d48889fabb96f6d22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4"/>
          <p:cNvSpPr txBox="1"/>
          <p:nvPr/>
        </p:nvSpPr>
        <p:spPr>
          <a:xfrm>
            <a:off x="2786040" y="214200"/>
            <a:ext cx="3929040" cy="12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реги их !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1800360" y="5429160"/>
            <a:ext cx="62841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формление: Елены Берюх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айт: «Школа АБВ»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ttp://shkola-abv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zooclub.ru/attach/296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2" descr=""/>
          <p:cNvPicPr/>
          <p:nvPr/>
        </p:nvPicPr>
        <p:blipFill>
          <a:blip r:embed="rId3"/>
          <a:stretch/>
        </p:blipFill>
        <p:spPr>
          <a:xfrm>
            <a:off x="444600" y="146160"/>
            <a:ext cx="7956360" cy="1218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www.medprep.info/img/herb/1138_1201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2" descr=""/>
          <p:cNvPicPr/>
          <p:nvPr/>
        </p:nvPicPr>
        <p:blipFill>
          <a:blip r:embed="rId3"/>
          <a:stretch/>
        </p:blipFill>
        <p:spPr>
          <a:xfrm>
            <a:off x="304920" y="5505480"/>
            <a:ext cx="8510400" cy="12193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2" descr=""/>
          <p:cNvPicPr/>
          <p:nvPr/>
        </p:nvPicPr>
        <p:blipFill>
          <a:blip r:embed="rId2"/>
          <a:stretch/>
        </p:blipFill>
        <p:spPr>
          <a:xfrm>
            <a:off x="731880" y="6480"/>
            <a:ext cx="7527960" cy="1218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Гроздовник простой"/>
          <p:cNvPicPr/>
          <p:nvPr/>
        </p:nvPicPr>
        <p:blipFill>
          <a:blip r:embed="rId3"/>
          <a:stretch/>
        </p:blipFill>
        <p:spPr>
          <a:xfrm>
            <a:off x="244440" y="1474920"/>
            <a:ext cx="3516480" cy="5249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Гроздовник простой"/>
          <p:cNvPicPr/>
          <p:nvPr/>
        </p:nvPicPr>
        <p:blipFill>
          <a:blip r:embed="rId4"/>
          <a:stretch/>
        </p:blipFill>
        <p:spPr>
          <a:xfrm>
            <a:off x="4743360" y="1438200"/>
            <a:ext cx="3651480" cy="5267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File:Iceland Plants 493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2" descr=""/>
          <p:cNvPicPr/>
          <p:nvPr/>
        </p:nvPicPr>
        <p:blipFill>
          <a:blip r:embed="rId3"/>
          <a:stretch/>
        </p:blipFill>
        <p:spPr>
          <a:xfrm>
            <a:off x="304920" y="79200"/>
            <a:ext cx="8137440" cy="12193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2" descr=""/>
          <p:cNvPicPr/>
          <p:nvPr/>
        </p:nvPicPr>
        <p:blipFill>
          <a:blip r:embed="rId2"/>
          <a:stretch/>
        </p:blipFill>
        <p:spPr>
          <a:xfrm>
            <a:off x="804960" y="79200"/>
            <a:ext cx="7040520" cy="1219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File:Lobelia dortmanna flower2.jpg"/>
          <p:cNvPicPr/>
          <p:nvPr/>
        </p:nvPicPr>
        <p:blipFill>
          <a:blip r:embed="rId3"/>
          <a:stretch/>
        </p:blipFill>
        <p:spPr>
          <a:xfrm>
            <a:off x="2670120" y="1474920"/>
            <a:ext cx="3554640" cy="5091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http://www.inf-red.ru/plants/lunnik_ojivauchii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2" descr=""/>
          <p:cNvPicPr/>
          <p:nvPr/>
        </p:nvPicPr>
        <p:blipFill>
          <a:blip r:embed="rId3"/>
          <a:stretch/>
        </p:blipFill>
        <p:spPr>
          <a:xfrm>
            <a:off x="731880" y="79200"/>
            <a:ext cx="7321680" cy="1219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File:LunariaRediviva.jpg"/>
          <p:cNvPicPr/>
          <p:nvPr/>
        </p:nvPicPr>
        <p:blipFill>
          <a:blip r:embed="rId4"/>
          <a:stretch/>
        </p:blipFill>
        <p:spPr>
          <a:xfrm>
            <a:off x="244440" y="1762200"/>
            <a:ext cx="3589200" cy="4870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www.inf-red.ru/plants/nadborodnik_bezlistniy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2" descr=""/>
          <p:cNvPicPr/>
          <p:nvPr/>
        </p:nvPicPr>
        <p:blipFill>
          <a:blip r:embed="rId3"/>
          <a:stretch/>
        </p:blipFill>
        <p:spPr>
          <a:xfrm>
            <a:off x="-158760" y="6480"/>
            <a:ext cx="8961480" cy="1218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C:\Users\Helen\Desktop\2013-04-26_07373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2" descr=""/>
          <p:cNvPicPr/>
          <p:nvPr/>
        </p:nvPicPr>
        <p:blipFill>
          <a:blip r:embed="rId3"/>
          <a:stretch/>
        </p:blipFill>
        <p:spPr>
          <a:xfrm>
            <a:off x="1444680" y="146160"/>
            <a:ext cx="5492520" cy="121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://www.inf-red.ru/plants/osoka_tenevaya.jpg"/>
          <p:cNvPicPr/>
          <p:nvPr/>
        </p:nvPicPr>
        <p:blipFill>
          <a:blip r:embed="rId4"/>
          <a:stretch/>
        </p:blipFill>
        <p:spPr>
          <a:xfrm>
            <a:off x="4595760" y="1974960"/>
            <a:ext cx="4237200" cy="45846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2:54:59Z</dcterms:created>
  <dc:creator>Helen</dc:creator>
  <dc:description/>
  <dc:language>en-US</dc:language>
  <cp:lastModifiedBy>Boris</cp:lastModifiedBy>
  <dcterms:modified xsi:type="dcterms:W3CDTF">2013-04-26T14:11:46Z</dcterms:modified>
  <cp:revision>9</cp:revision>
  <dc:subject/>
  <dc:title>Слайд 1</dc:title>
</cp:coreProperties>
</file>